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1681-AC79-404B-AA0C-49BC24CEBB4B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FC94-3FAC-4BF2-83E2-8EED9663B7E4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0407-00CB-4D7A-9410-29DBB9BCE1B7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0EB5-96E1-4CAC-9B53-3A7CD5CC5C2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C23B-3B65-46F9-AD5B-C025FDB2F25A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1A70-9649-4D74-BB8B-276080E0B022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E315-5864-41E9-912A-A5F4AF0C570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F323-49B0-4BE2-A40D-AD2EB013987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2AFC-6C20-41D0-9884-879D6A06A933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DD1E-19E1-48F4-8936-F37BE819557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976F-B801-4B42-9BD9-16E091BEFCE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F69B-DB48-4C28-B005-11B5C209B4C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314E-A586-4824-854A-DE8631E80AA1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173A-BFD1-4C11-839D-E268CE6A494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7567-CB58-4613-B989-B4546EC9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3F12-1F01-4335-AE95-68D388CA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30DC-44F2-4010-AFF4-B356E68A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BDD3-41D0-4F5D-AE73-ADED25E99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42EB-DC4F-4E86-B7CF-3D37446A5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1623-6D46-418E-8ECB-73295D66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0215-8D4D-4F49-9695-7FE79F1B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4915-B3CC-46B5-BDB5-AD6C801C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0B30-58F7-4ED0-BA11-CEBA0DCB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5FF5-65B5-4774-883F-546AA959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DF8B-4CB1-4FC3-BB5C-2D9209BB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A49F-F0A1-445D-AE01-621C3BCA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D432-1491-4841-B4AB-413DD7CE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3DA1-E524-41EF-B0DE-8C5A1FC6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E3B6-F20B-4771-8826-A22F8005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37FA-226E-4114-8015-566D80502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9C3C-0C19-48B7-9D56-8C420302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1C6FD-C531-4CBD-BFD4-4B50990AD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5BF43-1C23-438B-8244-B031FE9D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44B88-F068-4CA0-83EB-8704BBAF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25D35-D6E4-4FCE-B628-07E00371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A8FCC-6699-485A-BB28-77EE166B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228D-CDD0-4AAA-BDB8-7DF8ED9E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E2EA2-3C18-4E25-96A5-827A250A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7592E-7C64-4030-8613-4D8A9824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EFE0B-7FDC-4595-A423-DB9222CC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29D48-02DB-45AF-B963-37374B1B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F12E4-3AC7-4437-B4B7-8543EDED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ACD1E-852F-4981-98FF-6D9761D6E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05C0A-C696-4339-B9D9-00E5DC161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6E16-043A-4F0D-93B9-ADC8AF9D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9010-FFE4-4DA0-BCB9-515C78FB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802D-C7BD-4535-9E96-059D854B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9B07-F872-4C3B-8A3D-D1861534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F288-0653-48C4-86B6-657C7931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CA44-57C5-4445-88D0-C057F22F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4A2D-5A47-4C7A-AE64-B21693C52885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5143680" y="522360"/>
            <a:ext cx="3503520" cy="938160"/>
          </a:xfrm>
          <a:prstGeom prst="rect">
            <a:avLst/>
          </a:prstGeom>
          <a:solidFill>
            <a:srgbClr val="f0eee4"/>
          </a:solidFill>
          <a:ln w="25560">
            <a:solidFill>
              <a:srgbClr val="f0e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476280" y="501480"/>
            <a:ext cx="4762440" cy="998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7786800" y="487440"/>
            <a:ext cx="876240" cy="1182600"/>
          </a:xfrm>
          <a:prstGeom prst="rect">
            <a:avLst/>
          </a:prstGeom>
          <a:ln w="0">
            <a:noFill/>
          </a:ln>
        </p:spPr>
      </p:pic>
      <p:sp>
        <p:nvSpPr>
          <p:cNvPr id="44" name="Straight Connector 9"/>
          <p:cNvSpPr/>
          <p:nvPr/>
        </p:nvSpPr>
        <p:spPr>
          <a:xfrm>
            <a:off x="463680" y="1565280"/>
            <a:ext cx="8191440" cy="1440"/>
          </a:xfrm>
          <a:prstGeom prst="line">
            <a:avLst/>
          </a:prstGeom>
          <a:ln w="2160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4"/>
          <a:stretch/>
        </p:blipFill>
        <p:spPr>
          <a:xfrm>
            <a:off x="5214960" y="500040"/>
            <a:ext cx="2581200" cy="95580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1"/>
          <p:cNvSpPr/>
          <p:nvPr/>
        </p:nvSpPr>
        <p:spPr>
          <a:xfrm>
            <a:off x="476280" y="6240600"/>
            <a:ext cx="8191440" cy="1440"/>
          </a:xfrm>
          <a:prstGeom prst="line">
            <a:avLst/>
          </a:prstGeom>
          <a:ln w="2160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B18E4-567F-4150-AF21-9EB6CF3F962F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4326-5DE9-4194-857D-77D6E635D9B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hyperlink" Target="file:///chemical%20hazard%20.ppt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electrical_safety.ppt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hyperlink" Target="file:///HeatStress.ppt" TargetMode="External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hyperlink" Target="file:///chemical%20hazard%20.ppt" TargetMode="Externa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LaserSafetyTraining.ppt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hyperlink" Target="file:///chemical%20hazard%20.ppt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Lab Safety</a:t>
            </a: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Physical and Chemical</a:t>
            </a: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Haza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Calibri"/>
              </a:rPr>
              <a:t>Y.Khosra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Calibri"/>
              </a:rPr>
              <a:t>yakhosravi@yahoo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428560" y="1714680"/>
            <a:ext cx="625788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lvl="2" marL="55404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caution when adding items to LN2.  Rapid addition of items can result in splashes to the face and ha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ounded Rectangle 3"/>
          <p:cNvSpPr/>
          <p:nvPr/>
        </p:nvSpPr>
        <p:spPr>
          <a:xfrm>
            <a:off x="47160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302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305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308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311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Rounded Rectangle 10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314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17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2571480" y="1714680"/>
            <a:ext cx="596268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isotope includes both sealed and unsealed sourc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527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led:  gas chromatograph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27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sealed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2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Group 6"/>
          <p:cNvGrpSpPr/>
          <p:nvPr/>
        </p:nvGrpSpPr>
        <p:grpSpPr>
          <a:xfrm>
            <a:off x="5651640" y="4076640"/>
            <a:ext cx="1657080" cy="1968480"/>
            <a:chOff x="5651640" y="4076640"/>
            <a:chExt cx="1657080" cy="1968480"/>
          </a:xfrm>
        </p:grpSpPr>
        <p:pic>
          <p:nvPicPr>
            <p:cNvPr id="321" name="Picture 4" descr="87"/>
            <p:cNvPicPr/>
            <p:nvPr/>
          </p:nvPicPr>
          <p:blipFill>
            <a:blip r:embed="rId1"/>
            <a:stretch/>
          </p:blipFill>
          <p:spPr>
            <a:xfrm>
              <a:off x="5651640" y="4076640"/>
              <a:ext cx="165708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 Box 5"/>
            <p:cNvSpPr/>
            <p:nvPr/>
          </p:nvSpPr>
          <p:spPr>
            <a:xfrm>
              <a:off x="5851080" y="567684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adioac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ounded Rectangle 6"/>
          <p:cNvSpPr/>
          <p:nvPr/>
        </p:nvSpPr>
        <p:spPr>
          <a:xfrm>
            <a:off x="500040" y="485784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Rounded Rectangle 7"/>
          <p:cNvGrpSpPr/>
          <p:nvPr/>
        </p:nvGrpSpPr>
        <p:grpSpPr>
          <a:xfrm>
            <a:off x="480960" y="4340160"/>
            <a:ext cx="1987560" cy="390600"/>
            <a:chOff x="480960" y="4340160"/>
            <a:chExt cx="1987560" cy="390600"/>
          </a:xfrm>
        </p:grpSpPr>
        <p:pic>
          <p:nvPicPr>
            <p:cNvPr id="325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80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51768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Rounded Rectangle 9"/>
          <p:cNvGrpSpPr/>
          <p:nvPr/>
        </p:nvGrpSpPr>
        <p:grpSpPr>
          <a:xfrm>
            <a:off x="487440" y="2352600"/>
            <a:ext cx="1993680" cy="390600"/>
            <a:chOff x="487440" y="2352600"/>
            <a:chExt cx="1993680" cy="390600"/>
          </a:xfrm>
        </p:grpSpPr>
        <p:pic>
          <p:nvPicPr>
            <p:cNvPr id="328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87440" y="235260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523800" y="2387520"/>
              <a:ext cx="1919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Rounded Rectangle 11"/>
          <p:cNvGrpSpPr/>
          <p:nvPr/>
        </p:nvGrpSpPr>
        <p:grpSpPr>
          <a:xfrm>
            <a:off x="480960" y="3346560"/>
            <a:ext cx="1987560" cy="390240"/>
            <a:chOff x="480960" y="3346560"/>
            <a:chExt cx="1987560" cy="390240"/>
          </a:xfrm>
        </p:grpSpPr>
        <p:pic>
          <p:nvPicPr>
            <p:cNvPr id="331" name="Rounded Rectangle 11" descr=""/>
            <p:cNvPicPr/>
            <p:nvPr/>
          </p:nvPicPr>
          <p:blipFill>
            <a:blip r:embed="rId4"/>
            <a:stretch/>
          </p:blipFill>
          <p:spPr>
            <a:xfrm>
              <a:off x="480960" y="334656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517680" y="3381480"/>
              <a:ext cx="1917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Rounded Rectangle 12"/>
          <p:cNvGrpSpPr/>
          <p:nvPr/>
        </p:nvGrpSpPr>
        <p:grpSpPr>
          <a:xfrm>
            <a:off x="480960" y="3840120"/>
            <a:ext cx="1987560" cy="390600"/>
            <a:chOff x="480960" y="3840120"/>
            <a:chExt cx="1987560" cy="390600"/>
          </a:xfrm>
        </p:grpSpPr>
        <p:pic>
          <p:nvPicPr>
            <p:cNvPr id="334" name="Rounded Rectangle 12" descr=""/>
            <p:cNvPicPr/>
            <p:nvPr/>
          </p:nvPicPr>
          <p:blipFill>
            <a:blip r:embed="rId5"/>
            <a:stretch/>
          </p:blipFill>
          <p:spPr>
            <a:xfrm>
              <a:off x="480960" y="384012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517680" y="387504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Rounded Rectangle 13"/>
          <p:cNvGrpSpPr/>
          <p:nvPr/>
        </p:nvGrpSpPr>
        <p:grpSpPr>
          <a:xfrm>
            <a:off x="450720" y="2846520"/>
            <a:ext cx="1987560" cy="390240"/>
            <a:chOff x="450720" y="2846520"/>
            <a:chExt cx="1987560" cy="390240"/>
          </a:xfrm>
        </p:grpSpPr>
        <p:pic>
          <p:nvPicPr>
            <p:cNvPr id="337" name="Rounded Rectangle 13" descr=""/>
            <p:cNvPicPr/>
            <p:nvPr/>
          </p:nvPicPr>
          <p:blipFill>
            <a:blip r:embed="rId6"/>
            <a:stretch/>
          </p:blipFill>
          <p:spPr>
            <a:xfrm>
              <a:off x="450720" y="284652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485640" y="28828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0" name="Rounded Rectangle 14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41" name="Rounded Rectangle 14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2571840" y="1785960"/>
            <a:ext cx="6114960" cy="43401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radioactive materials requires prior authorization from the UAF Radiation Safety Offic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907-474-6771).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TE: All project members must have UAF Training and Authoriz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ounded Rectangle 12"/>
          <p:cNvSpPr/>
          <p:nvPr/>
        </p:nvSpPr>
        <p:spPr>
          <a:xfrm>
            <a:off x="500040" y="485784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Rounded Rectangle 13"/>
          <p:cNvGrpSpPr/>
          <p:nvPr/>
        </p:nvGrpSpPr>
        <p:grpSpPr>
          <a:xfrm>
            <a:off x="480960" y="4340160"/>
            <a:ext cx="1987560" cy="390600"/>
            <a:chOff x="480960" y="4340160"/>
            <a:chExt cx="1987560" cy="390600"/>
          </a:xfrm>
        </p:grpSpPr>
        <p:pic>
          <p:nvPicPr>
            <p:cNvPr id="346" name="Rounded Rectangle 13" descr=""/>
            <p:cNvPicPr/>
            <p:nvPr/>
          </p:nvPicPr>
          <p:blipFill>
            <a:blip r:embed="rId1"/>
            <a:stretch/>
          </p:blipFill>
          <p:spPr>
            <a:xfrm>
              <a:off x="480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51768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Rounded Rectangle 15"/>
          <p:cNvGrpSpPr/>
          <p:nvPr/>
        </p:nvGrpSpPr>
        <p:grpSpPr>
          <a:xfrm>
            <a:off x="487440" y="2352600"/>
            <a:ext cx="1993680" cy="390600"/>
            <a:chOff x="487440" y="2352600"/>
            <a:chExt cx="1993680" cy="390600"/>
          </a:xfrm>
        </p:grpSpPr>
        <p:pic>
          <p:nvPicPr>
            <p:cNvPr id="349" name="Rounded Rectangle 15" descr=""/>
            <p:cNvPicPr/>
            <p:nvPr/>
          </p:nvPicPr>
          <p:blipFill>
            <a:blip r:embed="rId2"/>
            <a:stretch/>
          </p:blipFill>
          <p:spPr>
            <a:xfrm>
              <a:off x="487440" y="235260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523800" y="2387520"/>
              <a:ext cx="1919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Rounded Rectangle 17"/>
          <p:cNvGrpSpPr/>
          <p:nvPr/>
        </p:nvGrpSpPr>
        <p:grpSpPr>
          <a:xfrm>
            <a:off x="480960" y="3346560"/>
            <a:ext cx="1987560" cy="390240"/>
            <a:chOff x="480960" y="3346560"/>
            <a:chExt cx="1987560" cy="390240"/>
          </a:xfrm>
        </p:grpSpPr>
        <p:pic>
          <p:nvPicPr>
            <p:cNvPr id="352" name="Rounded Rectangle 17" descr=""/>
            <p:cNvPicPr/>
            <p:nvPr/>
          </p:nvPicPr>
          <p:blipFill>
            <a:blip r:embed="rId3"/>
            <a:stretch/>
          </p:blipFill>
          <p:spPr>
            <a:xfrm>
              <a:off x="480960" y="334656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517680" y="3381480"/>
              <a:ext cx="1917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Rounded Rectangle 18"/>
          <p:cNvGrpSpPr/>
          <p:nvPr/>
        </p:nvGrpSpPr>
        <p:grpSpPr>
          <a:xfrm>
            <a:off x="480960" y="3840120"/>
            <a:ext cx="1987560" cy="390600"/>
            <a:chOff x="480960" y="3840120"/>
            <a:chExt cx="1987560" cy="390600"/>
          </a:xfrm>
        </p:grpSpPr>
        <p:pic>
          <p:nvPicPr>
            <p:cNvPr id="355" name="Rounded Rectangle 18" descr=""/>
            <p:cNvPicPr/>
            <p:nvPr/>
          </p:nvPicPr>
          <p:blipFill>
            <a:blip r:embed="rId4"/>
            <a:stretch/>
          </p:blipFill>
          <p:spPr>
            <a:xfrm>
              <a:off x="480960" y="384012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517680" y="387504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Rounded Rectangle 19"/>
          <p:cNvGrpSpPr/>
          <p:nvPr/>
        </p:nvGrpSpPr>
        <p:grpSpPr>
          <a:xfrm>
            <a:off x="450720" y="2846520"/>
            <a:ext cx="1987560" cy="390240"/>
            <a:chOff x="450720" y="2846520"/>
            <a:chExt cx="1987560" cy="390240"/>
          </a:xfrm>
        </p:grpSpPr>
        <p:pic>
          <p:nvPicPr>
            <p:cNvPr id="358" name="Rounded Rectangle 19" descr=""/>
            <p:cNvPicPr/>
            <p:nvPr/>
          </p:nvPicPr>
          <p:blipFill>
            <a:blip r:embed="rId5"/>
            <a:stretch/>
          </p:blipFill>
          <p:spPr>
            <a:xfrm>
              <a:off x="450720" y="284652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485640" y="28828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</a:rPr>
                <a:t>Compressed Ga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1" name="Rounded Rectangle 9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62" name="Rounded Rectangle 9" descr=""/>
            <p:cNvPicPr/>
            <p:nvPr/>
          </p:nvPicPr>
          <p:blipFill>
            <a:blip r:embed="rId6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KINGC0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3"/>
          <p:cNvSpPr/>
          <p:nvPr/>
        </p:nvSpPr>
        <p:spPr>
          <a:xfrm>
            <a:off x="2457360" y="1967040"/>
            <a:ext cx="535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B Zar"/>
              </a:rPr>
              <a:t>THANKS FOR YOUY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499840" y="1714320"/>
            <a:ext cx="618660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(but not limited to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ressed g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ical equi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mal haz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ounded Rectangle 3"/>
          <p:cNvSpPr/>
          <p:nvPr/>
        </p:nvSpPr>
        <p:spPr>
          <a:xfrm>
            <a:off x="428760" y="235728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Physic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Rounded Rectangle 4"/>
          <p:cNvGrpSpPr/>
          <p:nvPr/>
        </p:nvGrpSpPr>
        <p:grpSpPr>
          <a:xfrm>
            <a:off x="407880" y="2840040"/>
            <a:ext cx="1994040" cy="390600"/>
            <a:chOff x="407880" y="2840040"/>
            <a:chExt cx="1994040" cy="390600"/>
          </a:xfrm>
        </p:grpSpPr>
        <p:pic>
          <p:nvPicPr>
            <p:cNvPr id="140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07880" y="2840040"/>
              <a:ext cx="19940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460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</a:rPr>
                <a:t>Compressed Ga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43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46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49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52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55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500200" y="1714320"/>
            <a:ext cx="622944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ressed gas cylinders must be restrained in an upright position in the la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s must be in place when cylinder is not in u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sure regulator and supply lines are in good condi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ver use rigid plastic tubing, which can shatter if the pressure limits are excee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ounded Rectangle 3"/>
          <p:cNvSpPr/>
          <p:nvPr/>
        </p:nvSpPr>
        <p:spPr>
          <a:xfrm>
            <a:off x="428760" y="2857680"/>
            <a:ext cx="1952640" cy="35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Compressed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160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63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66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69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72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75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571840" y="1714680"/>
            <a:ext cx="611496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urning on the 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sure that the flow valve is open (so there will be no pressure in the supply line).  Adjust flow valve only after you have opened the regul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rn your head away from the tan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179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82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85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88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91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11"/>
          <p:cNvSpPr/>
          <p:nvPr/>
        </p:nvSpPr>
        <p:spPr>
          <a:xfrm>
            <a:off x="428760" y="2857680"/>
            <a:ext cx="1952640" cy="35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Compressed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ounded Rectangle 12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95" name="Rounded Rectangle 12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643120" y="1714320"/>
            <a:ext cx="604368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ways inspect electrical cords prior to use.  Do not use if they are cracked or have exposed wir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ver use electrical appliances near wat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ke sure hands are dry when unplugging a cor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not overload outle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void excessive use of extension cord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ver override the safety features on electrical equip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ounded Rectangle 3">
            <a:hlinkClick r:id="rId1"/>
          </p:cNvPr>
          <p:cNvSpPr/>
          <p:nvPr/>
        </p:nvSpPr>
        <p:spPr>
          <a:xfrm>
            <a:off x="428760" y="3357720"/>
            <a:ext cx="200016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Electrical</a:t>
            </a: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200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03" name="Rounded Rectangle 6" descr=""/>
            <p:cNvPicPr/>
            <p:nvPr/>
          </p:nvPicPr>
          <p:blipFill>
            <a:blip r:embed="rId3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06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209" name="Rounded Rectangle 10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Rounded Rectangle 12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12" name="Rounded Rectangle 12" descr=""/>
            <p:cNvPicPr/>
            <p:nvPr/>
          </p:nvPicPr>
          <p:blipFill>
            <a:blip r:embed="rId7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Rounded Rectangle 8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15" name="Rounded Rectangle 8" descr="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499840" y="1714320"/>
            <a:ext cx="618660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work with lasers in your lab, your supervisor should provide you with specific operating procedures and safety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ser Safety training is available through UAF EHS&amp;RM (907-474-2762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ounded Rectangle 3">
            <a:hlinkClick r:id="rId1"/>
          </p:cNvPr>
          <p:cNvSpPr/>
          <p:nvPr/>
        </p:nvSpPr>
        <p:spPr>
          <a:xfrm>
            <a:off x="441360" y="385776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220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23" name="Rounded Rectangle 6" descr=""/>
            <p:cNvPicPr/>
            <p:nvPr/>
          </p:nvPicPr>
          <p:blipFill>
            <a:blip r:embed="rId3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26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Rounded Rectangle 9"/>
          <p:cNvGrpSpPr/>
          <p:nvPr/>
        </p:nvGrpSpPr>
        <p:grpSpPr>
          <a:xfrm>
            <a:off x="420840" y="2840040"/>
            <a:ext cx="1993680" cy="390600"/>
            <a:chOff x="420840" y="2840040"/>
            <a:chExt cx="1993680" cy="390600"/>
          </a:xfrm>
        </p:grpSpPr>
        <p:pic>
          <p:nvPicPr>
            <p:cNvPr id="229" name="Rounded Rectangle 9" descr=""/>
            <p:cNvPicPr/>
            <p:nvPr/>
          </p:nvPicPr>
          <p:blipFill>
            <a:blip r:embed="rId5"/>
            <a:stretch/>
          </p:blipFill>
          <p:spPr>
            <a:xfrm>
              <a:off x="420840" y="284004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4586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232" name="Rounded Rectangle 10" descr=""/>
            <p:cNvPicPr/>
            <p:nvPr/>
          </p:nvPicPr>
          <p:blipFill>
            <a:blip r:embed="rId6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35" name="Rounded Rectangle 11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499840" y="1714680"/>
            <a:ext cx="5915160" cy="4410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mal hazards include both hot and cold obje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t ite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heat-resistant gloves when handling hot it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caution when heating liquids on hot pl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a stir bar or Boil-Eezers to ensure even heating of the liquids (to prevent superheating and boil-ov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ver leave hot plates unatten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ounded Rectangle 4"/>
          <p:cNvSpPr/>
          <p:nvPr/>
        </p:nvSpPr>
        <p:spPr>
          <a:xfrm>
            <a:off x="45396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Rounded Rectangle 5"/>
          <p:cNvGrpSpPr/>
          <p:nvPr/>
        </p:nvGrpSpPr>
        <p:grpSpPr>
          <a:xfrm>
            <a:off x="426960" y="2341440"/>
            <a:ext cx="1987560" cy="389160"/>
            <a:chOff x="426960" y="2341440"/>
            <a:chExt cx="1987560" cy="389160"/>
          </a:xfrm>
        </p:grpSpPr>
        <p:pic>
          <p:nvPicPr>
            <p:cNvPr id="240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42696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604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Rounded Rectangle 7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43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Rounded Rectangle 9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46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Rounded Rectangle 10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49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Rounded Rectangle 11"/>
          <p:cNvGrpSpPr/>
          <p:nvPr/>
        </p:nvGrpSpPr>
        <p:grpSpPr>
          <a:xfrm>
            <a:off x="420840" y="2840040"/>
            <a:ext cx="1993680" cy="390600"/>
            <a:chOff x="420840" y="2840040"/>
            <a:chExt cx="1993680" cy="390600"/>
          </a:xfrm>
        </p:grpSpPr>
        <p:pic>
          <p:nvPicPr>
            <p:cNvPr id="252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420840" y="284004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586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Rounded Rectangle 12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56" name="Rounded Rectangle 12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2499840" y="1714680"/>
            <a:ext cx="6186600" cy="4411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nsen bur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pect tubing prior to using the burner.  It should not have cracks, and should fit tightly to the burner and to the gas spigo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 alert to gas leaks along the tubing—these can igni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 back from the burner when lighting the g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ounded Rectangle 4"/>
          <p:cNvSpPr/>
          <p:nvPr/>
        </p:nvSpPr>
        <p:spPr>
          <a:xfrm>
            <a:off x="47952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Rounded Rectangle 5"/>
          <p:cNvGrpSpPr/>
          <p:nvPr/>
        </p:nvGrpSpPr>
        <p:grpSpPr>
          <a:xfrm>
            <a:off x="438120" y="2341440"/>
            <a:ext cx="1987560" cy="389160"/>
            <a:chOff x="438120" y="2341440"/>
            <a:chExt cx="1987560" cy="389160"/>
          </a:xfrm>
        </p:grpSpPr>
        <p:pic>
          <p:nvPicPr>
            <p:cNvPr id="261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4381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4730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Rounded Rectangle 7"/>
          <p:cNvGrpSpPr/>
          <p:nvPr/>
        </p:nvGrpSpPr>
        <p:grpSpPr>
          <a:xfrm>
            <a:off x="457200" y="4846680"/>
            <a:ext cx="1987560" cy="384120"/>
            <a:chOff x="457200" y="4846680"/>
            <a:chExt cx="1987560" cy="384120"/>
          </a:xfrm>
        </p:grpSpPr>
        <p:pic>
          <p:nvPicPr>
            <p:cNvPr id="264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572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9068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Rounded Rectangle 9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67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Rounded Rectangle 10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70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Rounded Rectangle 11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73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Rounded Rectangle 8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76" name="Rounded Rectangle 8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500200" y="1714680"/>
            <a:ext cx="641520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quid Nitrogen (LN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r insulated or cryoprotective gloves when accessing LN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:  cotton mittens are not sufficient.  Splashes of LN2 can easily penetrate the mittens, causing frostbite and serious inju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r face shield or splash goggles to protect face and/or eyes from splas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ounded Rectangle 3"/>
          <p:cNvSpPr/>
          <p:nvPr/>
        </p:nvSpPr>
        <p:spPr>
          <a:xfrm>
            <a:off x="46368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Rounded Rectangle 4"/>
          <p:cNvGrpSpPr/>
          <p:nvPr/>
        </p:nvGrpSpPr>
        <p:grpSpPr>
          <a:xfrm>
            <a:off x="438120" y="2341440"/>
            <a:ext cx="1987560" cy="389160"/>
            <a:chOff x="438120" y="2341440"/>
            <a:chExt cx="1987560" cy="389160"/>
          </a:xfrm>
        </p:grpSpPr>
        <p:pic>
          <p:nvPicPr>
            <p:cNvPr id="281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381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4730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84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Rounded Rectangle 8"/>
          <p:cNvGrpSpPr/>
          <p:nvPr/>
        </p:nvGrpSpPr>
        <p:grpSpPr>
          <a:xfrm>
            <a:off x="444600" y="3340080"/>
            <a:ext cx="1987560" cy="390600"/>
            <a:chOff x="444600" y="3340080"/>
            <a:chExt cx="1987560" cy="390600"/>
          </a:xfrm>
        </p:grpSpPr>
        <p:pic>
          <p:nvPicPr>
            <p:cNvPr id="287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77720" y="3375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90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Rounded Rectangle 10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93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96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8:20:37Z</dcterms:created>
  <dc:creator>MRT</dc:creator>
  <dc:description/>
  <dc:language>en-US</dc:language>
  <cp:lastModifiedBy>دشئث</cp:lastModifiedBy>
  <dcterms:modified xsi:type="dcterms:W3CDTF">2010-10-16T17:55:37Z</dcterms:modified>
  <cp:revision>49</cp:revision>
  <dc:subject/>
  <dc:title>Slide 1</dc:title>
</cp:coreProperties>
</file>