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0B81-2579-485B-A0FA-AA977EA3C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6002-0673-4474-A3E8-5B8AA3131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E120-2C81-4BF9-AAC9-311F51A2C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6E8B-C22D-4EFD-AB55-C4237B4AE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8230-F05E-4222-B2E2-400C06631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3C37-46C9-4456-B7A8-10269BDF6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436C-5031-41FA-B305-E8A0CED12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5CCC-FDE4-4845-B934-3327819765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4B56-181D-40EE-8A0C-3A4C243DD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129F-ADB6-4AAC-B20D-175F6EF98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0D13-FA01-42DA-86A6-1D3A2D2AB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8E5F-A253-422B-9F7A-CECCF012D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889B-3A76-4367-B128-BD7B53117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639-0875-4ACB-8243-044DD248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C40-C604-449A-9035-99A0275A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E886-A4B1-49A3-B190-BB263B5E7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CD85-DC36-43DB-BB4F-0FA54188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37E-87FA-4EA0-BA70-AC579DE2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3F4-3ECA-4A66-8CC6-68D0F8A6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A07A-8799-479E-957A-D02188CA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E1F-2E16-4C67-9422-C06E99A5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3A0-5C11-4CCE-8A0A-1C0601E4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5E72-9D20-4571-989B-2742AB03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52D-AEA2-4707-8DC4-712C1F5D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70C-FCDF-4BDC-886F-7DA048CE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114F-19AA-4609-AC09-E078F8BEE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5767200" cy="7467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lationship between power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urrent, voltage and resistanc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 power (wat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= current (amper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 voltage (vol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 = resistance (oh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ating tape uses 5 amps at 120 vol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wer dissipated by this device is 600 watt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286000" y="3505320"/>
                <a:ext cx="2209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441360" y="141300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2286000" y="2747880"/>
                <a:ext cx="217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2286000" y="4272120"/>
                <a:ext cx="2440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 careful with electricit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k someone for help if you are unsu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110-1018_IMG"/>
          <p:cNvPicPr/>
          <p:nvPr/>
        </p:nvPicPr>
        <p:blipFill>
          <a:blip r:embed="rId1"/>
          <a:stretch/>
        </p:blipFill>
        <p:spPr>
          <a:xfrm>
            <a:off x="1314360" y="2641680"/>
            <a:ext cx="474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110-1023_IMG"/>
          <p:cNvPicPr/>
          <p:nvPr/>
        </p:nvPicPr>
        <p:blipFill>
          <a:blip r:embed="rId1"/>
          <a:stretch/>
        </p:blipFill>
        <p:spPr>
          <a:xfrm>
            <a:off x="1200240" y="26416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 vs. DC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77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rect current (DC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Documents and Settings\josh\Desktop\Graph1.EMF"/>
          <p:cNvPicPr/>
          <p:nvPr/>
        </p:nvPicPr>
        <p:blipFill>
          <a:blip r:embed="rId1"/>
          <a:stretch/>
        </p:blipFill>
        <p:spPr>
          <a:xfrm>
            <a:off x="914400" y="2209680"/>
            <a:ext cx="4610160" cy="563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518480" y="7848720"/>
            <a:ext cx="4060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"/>
              </a:rPr>
              <a:t>Alternating current (A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77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equirements (inpu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048120"/>
          <a:ext cx="6019560" cy="3689280"/>
        </p:xfrm>
        <a:graphic>
          <a:graphicData uri="http://schemas.openxmlformats.org/drawingml/2006/table">
            <a:tbl>
              <a:tblPr/>
              <a:tblGrid>
                <a:gridCol w="2619360"/>
                <a:gridCol w="1008000"/>
                <a:gridCol w="1173240"/>
                <a:gridCol w="12189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t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b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ing tape (bi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 g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ethal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t below assumes 1 second hand to fo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osure to 120 volt, 60 cycle AC power supp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2590920"/>
          <a:ext cx="5791320" cy="4917960"/>
        </p:xfrm>
        <a:graphic>
          <a:graphicData uri="http://schemas.openxmlformats.org/drawingml/2006/table">
            <a:tbl>
              <a:tblPr/>
              <a:tblGrid>
                <a:gridCol w="2210040"/>
                <a:gridCol w="358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shock felt; not painful but disturb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ful shock; "let-go"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5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eme pain, respiratory arrest, severe muscular contra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-4,30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fibril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+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arrest, severe burns and probable de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0"/>
          <p:cNvSpPr/>
          <p:nvPr/>
        </p:nvSpPr>
        <p:spPr>
          <a:xfrm>
            <a:off x="517680" y="796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1"/>
          <p:cNvSpPr/>
          <p:nvPr/>
        </p:nvSpPr>
        <p:spPr>
          <a:xfrm>
            <a:off x="460440" y="7924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boratory wall outlets provide 20,000 mA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Fus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malfunctioning equipment from draw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or melts if too much current flows through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used o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ways use the correct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371600" y="3809880"/>
            <a:ext cx="1563840" cy="1983600"/>
            <a:chOff x="1371600" y="3809880"/>
            <a:chExt cx="1563840" cy="1983600"/>
          </a:xfrm>
        </p:grpSpPr>
        <p:pic>
          <p:nvPicPr>
            <p:cNvPr id="69" name="Picture 11" descr="http://static.howstuffworks.com/gif/wfc-fuse-good.jpg"/>
            <p:cNvPicPr/>
            <p:nvPr/>
          </p:nvPicPr>
          <p:blipFill>
            <a:blip r:embed="rId1"/>
            <a:stretch/>
          </p:blipFill>
          <p:spPr>
            <a:xfrm>
              <a:off x="1371600" y="3809880"/>
              <a:ext cx="15638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1450440" y="53337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6"/>
          <p:cNvGrpSpPr/>
          <p:nvPr/>
        </p:nvGrpSpPr>
        <p:grpSpPr>
          <a:xfrm>
            <a:off x="3581280" y="3809880"/>
            <a:ext cx="1710000" cy="1983600"/>
            <a:chOff x="3581280" y="3809880"/>
            <a:chExt cx="1710000" cy="1983600"/>
          </a:xfrm>
        </p:grpSpPr>
        <p:pic>
          <p:nvPicPr>
            <p:cNvPr id="72" name="Picture 7" descr="http://static.howstuffworks.com/gif/wfc-fuse-blown.jpg"/>
            <p:cNvPicPr/>
            <p:nvPr/>
          </p:nvPicPr>
          <p:blipFill>
            <a:blip r:embed="rId2"/>
            <a:stretch/>
          </p:blipFill>
          <p:spPr>
            <a:xfrm>
              <a:off x="3581280" y="3809880"/>
              <a:ext cx="1710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4"/>
            <p:cNvSpPr/>
            <p:nvPr/>
          </p:nvSpPr>
          <p:spPr>
            <a:xfrm>
              <a:off x="3603600" y="53337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lown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chanical switch is driven by an electromagn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reset many ti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1655640" y="3230640"/>
            <a:ext cx="2381400" cy="2682720"/>
            <a:chOff x="1655640" y="3230640"/>
            <a:chExt cx="2381400" cy="2682720"/>
          </a:xfrm>
        </p:grpSpPr>
        <p:sp>
          <p:nvSpPr>
            <p:cNvPr id="77" name="Rectangle 10"/>
            <p:cNvSpPr/>
            <p:nvPr/>
          </p:nvSpPr>
          <p:spPr>
            <a:xfrm>
              <a:off x="1655640" y="323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1655640" y="3230640"/>
              <a:ext cx="2381400" cy="26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2" descr="http://static.howstuffworks.com/gif/circuit-breaker-diagram.gif"/>
          <p:cNvPicPr/>
          <p:nvPr/>
        </p:nvPicPr>
        <p:blipFill>
          <a:blip r:embed="rId1"/>
          <a:stretch/>
        </p:blipFill>
        <p:spPr>
          <a:xfrm>
            <a:off x="1143000" y="4800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circuit breaker may cover many electrical receptacles in a l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ptacles in some labs are labeled with a number that corresponds to a circuit break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1066680" y="4876920"/>
          <a:ext cx="50799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5079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823000" cy="723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contact with energized circu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nect the power source before servicing or repairing electrical equip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k with only one hand, keeping the other hand behind you or in a poc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water or a chemical is spilled onto equipment, shut off power at the main switch or circuit breaker and unplug the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 individual comes in contact with a live electrical conductor, do not touch the equipment, cord or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Disconnect the power source from the circuit breaker or pull out the plug using a leather belt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790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Electrical Fir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nplug equipment firs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se dry chemical fire extinguish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f fire is large, unplug equipment and call fire dep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Never use water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josh\Application Data\Microsoft\Media Catalog\Downloaded Clips\cl0\HH00861_.wmf"/>
          <p:cNvPicPr/>
          <p:nvPr/>
        </p:nvPicPr>
        <p:blipFill>
          <a:blip r:embed="rId1"/>
          <a:stretch/>
        </p:blipFill>
        <p:spPr>
          <a:xfrm>
            <a:off x="4114800" y="1447920"/>
            <a:ext cx="80820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Common Files\Microsoft Shared\Clipart\cagcat50\bd06711_.wmf"/>
          <p:cNvPicPr/>
          <p:nvPr/>
        </p:nvPicPr>
        <p:blipFill>
          <a:blip r:embed="rId2"/>
          <a:stretch/>
        </p:blipFill>
        <p:spPr>
          <a:xfrm>
            <a:off x="4724280" y="7086600"/>
            <a:ext cx="175752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4:02:02Z</dcterms:created>
  <dc:creator>josh</dc:creator>
  <dc:description/>
  <dc:language>en-US</dc:language>
  <cp:lastModifiedBy>دشئث</cp:lastModifiedBy>
  <dcterms:modified xsi:type="dcterms:W3CDTF">2010-10-16T15:59:47Z</dcterms:modified>
  <cp:revision>26</cp:revision>
  <dc:subject/>
  <dc:title>Electrical Safety in the Laboratory</dc:title>
</cp:coreProperties>
</file>